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450-37A4-4DAB-A39E-70151A70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CF2-D429-41E6-BFD3-24AD3AAA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8D90-221B-4829-BC96-A529EE21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174-9E8D-4808-80D1-B55D4C82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8BB7-6D55-49B5-8EF2-E2DF3F22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087-44CB-4027-AE94-04AF8C66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605-901B-4801-84BE-C43FDD31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17D-465E-46C1-A617-00008951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5F34-B6A9-425F-B0B3-D0FB8163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18D-0610-4B82-A466-80C0AF45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8D16-7FA0-46A1-B300-246F7188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305-9D57-4227-A3C2-716DE46B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9C9A-92F6-4051-8944-B9F080D1F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elésirányítás és gazdaságossá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 már úgy kell irányítani a termelést, hogy többféle terméket, kis sorozatban, minimális egységköltséggel lehessen előállítan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galmas gyártási kapacitás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egészítve a számítástechnikával támogatott termelési információrendszerrel - lehetővé teszik a rövid átfutási időket, csökkentve az anyagok tárolási, áramlási idejé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élrendszerb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glal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ütemes termékkibocsátás, egyenletes árbevét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átfutási idők minimalizálás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kapacitások egyenletes terhelé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készletek minimális szinten tartás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azdaságos indítási mennyisége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ugalmassá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omplex célrendszer a gyakorlatban egymás ellenható tényezők eredőjeként, optimálási feladat formájában jelentkezi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oldása során a termelésirányításnak több, különböző szempontot kell együttesen figyelembe venni és mérlegelni, mielőtt döntéseit meghoz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termelési logisztika teljesítményei és költsége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rmelési folyamat újszerű megközelítése a logisztikai koncepció, amely a teljes anyag- és információáramlás integrált tervezési, irányítási és ellenőrzési rendszerét jelenti a beszállítóktól a vállalaton keresztül a vevők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gisztika= nyersanyagok, félkész termékek és készgyártmányok, és az ezekkel összefüggő információk szállítási pontról fogadási pontra történő hatékony, a költségek szempontjából kedvező mozgatásának és tárolásának tervezési, végrehajtási és ellenőrzési folyam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termelési logisztika teljesítmény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y- és helyzetváltoztatá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akodás, helyzetbeállítá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zállítás, továbbítá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árol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Átalakítá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egmunkálá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összeépítés, szerel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ztikai telj. befolyásoló tényező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ennyisé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áramlás intenzitás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áramlás sebessé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ogisztikai munk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nyagáramlási útvon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yártás technológiai elrendezé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ermelési logisztika gazdaságosságát mér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ljesítmény és az annak elérése érdekében eszközölt ráfordítás hányadosa (vagy különbsé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a teljesítmény állandó a vizsgálat időpontjában: a termelési logisztika  egyszerűsített gazdaságossági kritérium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költségek minimalizálá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z egyes költségelemeket elemezni k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anyagáramoltatás részfeladatainak költsége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r + Ksz + Kt + Km =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hol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r: rakodási költsé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sz: szállítási költsé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t: tárolási költsé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m: átalakítási költsé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logisztikai egységköltség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fajlagos költségek a logisztikai teljesítményegységre vonatkoztatott költséget fejezik k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öltségfüggvény alakulása a logisztikai teljesítményre, illetve kapacitáskihasználásra érzékeny, vagy nem, ill.kevésbé érzékeny költségelemek értékétől és súlyarányától függően változi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termelésirányítás célrendsz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állalati működés folyamatos fenntartásához ütemes termékkibocsátás é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gyenletes árbevét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ükséges, mivel a termelés költségei és az általános költségek is folyamatosan merülnek f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 termékek elkészülése n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enletes ütemben történi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özvetlen gyártási átalakítási költségek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ajlagos értéke nem változik a gyártási mennyiség függvényé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lőkészületi, átállítási költségek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áramoltatott mennyiségekhez kapcsolódó egyszeri, mennyiségtől nem, vagy kevéssé függő ráfordítások fajlagos költsége kis mennyiségeknél igen magas, és a mennyiség növekedésével egy y = konstans/x alakú függvény szerint csökk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észletezési és készletfinanszírozási költségek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rendelkezésre álló eszközök teljesítő képességének kedvező műszaki kihasználás határáig alig emelkednek, a túlterhelés, vagy a pénzügyi források túllépése esetén  progresszíven emelkedne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fajlagos készletezési költségek növekedése határt szab a gyártási és logisztikai egységköltségek csökkenésének a mennyiség függvényében. Ezért a fajlagos költségek függvénye kissé torzult parabola alakot vesz f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örbe minimum pontjának helye a vízszintes tengelyen az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üzemi optimum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ehhez tartozó költség érték az adott technológiai változat esetén a legkisebb fajlagos költséget mutat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állalat érdeke, hogy ennek a minimum pontnak a közelében működtesse kapacitása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jlesztési alternatívák mérlegelé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gisztikai rendszer költségeiben másként jelenik meg a beruházásból, egyszeri ráfordításból, származó, és másként a folyamatos üzemeltetésből adódó költsé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hetséges technológiai változatok, fejlesztési alternatívák vizsgálatakor a logisztikai összköltség meghatározásával dönthető el a gazdaságosság kérdése, általában az átáramló, legyártandó mennyiség függvényéb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: összes költsé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Q: logisztikai teljesítmén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.: technológiai változa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I.: technológiai változa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1: az l. változat beruházási költség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2: a II. változat beruházási költség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Ü1: az l. változat üzemeltetési költség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Ü2: a II. változat üzemeltetési költség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Qm: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ritikus logisztikai teljesítmé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Qkrit mennyiség a fenti adatok alapjá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2-B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Ü1-Ü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Qkrit értékénél kisebb logisztikai teljesítményre az I. változ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agyobb teljesítmény esetén a II. változat a gazdaságosab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rmékek eltérő mennyiségű munkaráfordításokat vesznek fel, eltérő átfutási idők alat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a termelés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áfordítások időben egyenletesek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a kibocsátás egyenlőtlen, a jelentkező különbségeket a gyártási folyamat, mint tároló rendszer fogja fel készletek formájáb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yártásirányítás feladata, hogy az egyenletes árbevétel érdekében egyenletes ütemben töltse fel az anyag-, befejezetlen- és késztermék készleteket és a gyártás folyamatos fenntartásához szükséges minimális mértéken tart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közb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áfordítások és az értékesítése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idejűleg töltik és ürítik a tároló rendsz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hát a vállalatnak nemcsak a termelési folyamat folytonossága fontos, hanem az egyes termékek gyártásának folyamatossága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záltal biztosítható a gyártmányok legkisebb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átfutási ide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övid átfutási időnek 2 okból van jelentősé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 rendelések visszaigazolásánál 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 gyártásban lekötött forgóeszközök gyorsabb megtérülése szempontjábó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onló jellegű és volumenű munkafeladatok  ismétlődése esetén az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ütemes termékkibocsátás egyenletes terhelé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lent a gyártás számára, így az erőforrások kihasználtsága folyamatosan biztosíthat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összehangolás problémája főleg a rendszertelenül fellépő egyedi igények kielégítése pl. egyedi gyártás  esetén merül f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ütemes termékkibocsátás és az egyenletes terhelés megvalósításában fontos szerepet játszik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ömegszerűsé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s a rá ható tényező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rmelési folyamatot, mint átalakító-áramoltató rendszert hatékonynak tekintjük ha megvalósítj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ék előállításában a legrövidebb átfutási idő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sszességében az összes erőforrás betáplálás és tárolás legkisebb ráfordításai mellett a lehető legnagyobb gazdasági eredményt hozz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yártási folyamat előtt alatt és közb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árolási, készletezési szükséglete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épnek f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zek összessége: a vállalat folyamatos működéséhez szükséges forgóeszköz kész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zdaságos felhasználásukat a készletszinteknek a -termelés zavartalan fenntartásához szükséges - minimális szinten tartását a termelésirányítás a gyártás irányításával szoros összefüggésben határozza meg és biztosít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gyszerre gyártandó termékmennyisége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állapítására a gazdaságossági számítások 2 irányból közelíten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 gyártási egységköltség optimalizálása 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 kapacitás kihasználás maximalizálása felő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agyományos un. gazdaságos sorozatnagyságok meghatározásának alapja az indítási, átállítási költségek és a készletezési költségek mennyiségnövekedésre ellentétesen reagáló változásaiból eredő egységköltség optimum keresé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4T00:04:31Z</dcterms:created>
  <dc:creator>Laci</dc:creator>
  <dc:description/>
  <dc:language>en-US</dc:language>
  <cp:lastModifiedBy>Laci</cp:lastModifiedBy>
  <dcterms:modified xsi:type="dcterms:W3CDTF">1980-01-04T03:33:05Z</dcterms:modified>
  <cp:revision>3</cp:revision>
  <dc:subject/>
  <dc:title>1. dia</dc:title>
</cp:coreProperties>
</file>